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D30-F275-4C1D-BD4F-25AB19D8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C71E-522C-4630-91DC-B1088E23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FE9-4A7C-4391-BAB1-AAB68D55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1B1-1C04-4A55-A41F-D94FEF6A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736-0868-41BE-9865-9A079385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A5E-EFBA-4A2F-8FC6-CEC93BF4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3DE-89EC-4F54-A7F7-FD250EB9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5CF-3C5A-4E91-B273-5B3A6DB5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6B5-898B-4085-A61E-4015159C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AC19-43CC-4FBC-BE6A-AA4C8C5B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509-8AEB-4B5D-941B-09BB3637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FB2-B0FA-4D92-8F73-0211DB7A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A5B0-527C-44B8-95BD-75DCE4E7D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55:09Z</dcterms:created>
  <dc:creator>Cursant19</dc:creator>
  <dc:description/>
  <dc:language>en-US</dc:language>
  <cp:lastModifiedBy>Cursant19</cp:lastModifiedBy>
  <dcterms:modified xsi:type="dcterms:W3CDTF">2010-08-25T10:55:57Z</dcterms:modified>
  <cp:revision>1</cp:revision>
  <dc:subject/>
  <dc:title>Diapozitivul 1</dc:title>
</cp:coreProperties>
</file>